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AFD3-0BEF-48D8-B053-C148908FB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1240-5261-4D1B-B323-7BB972540A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5F14-E618-4FC4-B7E8-9CC410EB05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1D485-3495-4335-A6FC-BCC870EE2F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CF04-1A53-46A7-9345-006C4A9C91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40EE-D943-4EF6-9878-FD2A4AEEAF8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AEB-6734-4238-81AC-CB426C699C8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F3FB-FBF0-4B8C-875B-A034FCC3F1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45B3-F527-46F8-A00B-BEAE1580D1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7D46-7298-40C5-90A1-5B115444BA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3E8F4-407B-47DB-86C1-F14D323ED6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89C-3B5B-4C96-B180-E4D22AC447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EC103-0377-4159-8A9A-96EA77F93C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5AC6-9EE7-4E21-AD7B-AE7DC5F45D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8E587-4648-473E-A9FD-9B7DD2AC6A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06806-6862-48F3-9638-066662E924E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47FA-DA93-4F29-913C-E4D87C3A63F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731-5B58-4137-94C9-D2A2C13BD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B7C4-64E4-4767-9FB3-0AD228F0F6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C633-4DE2-4F03-941B-3890250098C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12AC-C26E-4CBB-B71A-CFB60EB7DF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67553-C789-43A2-8A67-D900AF6C03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C293-B796-4D5B-BEC2-597DE61240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F28D-DE41-47CE-9964-71A926DDD6A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7F979-4EE8-4560-87ED-F0F812AE0F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B54C3-5297-4682-8A80-31615E7FE4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CCF5-AAF3-405F-A61E-C06C66AACED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FC3F-75DD-4223-93C0-EB4A8D7EBA8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DD3B-C489-4F71-B640-FF5798A485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6511-CBB7-4771-B11F-A0CB0540E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6954-00E5-4594-A6D2-1C12E7C89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98B4-AFC6-448F-BB2B-D4FEE9B8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4705-B633-45FA-A55A-44EC73E6C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F9A1-9AFA-4682-8DAC-5B6EE0FD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758-6415-41A4-AA7A-FAA2DBC3E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B706-5FE7-448F-A560-374728E3D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A70-1C65-4246-BB1C-07468A813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88D-7082-4D35-89C3-329F5625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5E6C-EBAB-4FF2-9881-A7D702AC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8CBA-74C3-4606-A6C1-D1C53D1E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6763-A10F-4DC6-A93E-133D764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6666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6666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9874-A9DE-43DC-AFE9-72E78EC2A2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18.xml"/><Relationship Id="rId5" Type="http://schemas.openxmlformats.org/officeDocument/2006/relationships/slide" Target="slide23.xml"/><Relationship Id="rId6" Type="http://schemas.openxmlformats.org/officeDocument/2006/relationships/slide" Target="slide4.xml"/><Relationship Id="rId7" Type="http://schemas.openxmlformats.org/officeDocument/2006/relationships/slide" Target="slide9.xml"/><Relationship Id="rId8" Type="http://schemas.openxmlformats.org/officeDocument/2006/relationships/slide" Target="slide14.xml"/><Relationship Id="rId9" Type="http://schemas.openxmlformats.org/officeDocument/2006/relationships/slide" Target="slide19.xml"/><Relationship Id="rId10" Type="http://schemas.openxmlformats.org/officeDocument/2006/relationships/slide" Target="slide24.xml"/><Relationship Id="rId11" Type="http://schemas.openxmlformats.org/officeDocument/2006/relationships/image" Target="../media/image1.gif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057400" y="152280"/>
            <a:ext cx="426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Times New Roman"/>
              </a:rPr>
              <a:t>Zoo Jeopard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666699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99"/>
                      </a:solidFill>
                    </a:lnL>
                    <a:lnR w="5760">
                      <a:solidFill>
                        <a:srgbClr val="666699"/>
                      </a:solidFill>
                    </a:lnR>
                    <a:lnT w="5760">
                      <a:solidFill>
                        <a:srgbClr val="666699"/>
                      </a:solidFill>
                    </a:lnT>
                    <a:lnB w="5760">
                      <a:solidFill>
                        <a:srgbClr val="6666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" name="Picture 167" descr="C:\Users\Noel\Desktop\panda-ani.gif"/>
          <p:cNvPicPr/>
          <p:nvPr/>
        </p:nvPicPr>
        <p:blipFill>
          <a:blip r:embed="rId11"/>
          <a:stretch/>
        </p:blipFill>
        <p:spPr>
          <a:xfrm>
            <a:off x="304920" y="0"/>
            <a:ext cx="992160" cy="10666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9" descr="Common Armadillo"/>
          <p:cNvPicPr/>
          <p:nvPr/>
        </p:nvPicPr>
        <p:blipFill>
          <a:blip r:embed="rId12"/>
          <a:stretch/>
        </p:blipFill>
        <p:spPr>
          <a:xfrm>
            <a:off x="7086600" y="304920"/>
            <a:ext cx="1523880" cy="7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ction Button: Custom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6"/>
          <p:cNvSpPr txBox="1"/>
          <p:nvPr/>
        </p:nvSpPr>
        <p:spPr>
          <a:xfrm>
            <a:off x="762120" y="1981080"/>
            <a:ext cx="762948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Times New Roman"/>
              </a:rPr>
              <a:t>DAILY DOUBLE</a:t>
            </a:r>
            <a:endParaRPr b="0" lang="en-US" sz="96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Action Button: Custom 4"/>
          <p:cNvSpPr/>
          <p:nvPr/>
        </p:nvSpPr>
        <p:spPr>
          <a:xfrm>
            <a:off x="0" y="-15228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01:00:32Z</dcterms:created>
  <dc:creator>Philip Bigler</dc:creator>
  <dc:description/>
  <dc:language>en-US</dc:language>
  <cp:lastModifiedBy>Noel</cp:lastModifiedBy>
  <dcterms:modified xsi:type="dcterms:W3CDTF">2010-03-21T12:25:42Z</dcterms:modified>
  <cp:revision>29</cp:revision>
  <dc:subject/>
  <dc:title>Slide 1</dc:title>
</cp:coreProperties>
</file>